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jeopardy.wav" ContentType="audio/x-wav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ng" ContentType="image/png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30A3-BFD7-4508-A243-0CB3E48AF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7B0F-28BF-48AA-BC33-1FDA0999BC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AE61-B7A9-4AC7-8EFA-DD4546D5D5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488B-20FF-40A2-905B-5683A48F3A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6372-B3D6-40E8-A58B-4092DD8DD7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4C74-B2DA-4E8E-A07B-E2C3F6272A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4703-B625-44FB-91C2-941874D9D8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535B-14F6-476F-AADE-727F861C9A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D22F-D27B-4645-BC5B-9ACA1510F2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9CE9-68E8-4DF5-804C-6D26C8F83E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E5DD-95BA-4713-9DE5-ACA9C26445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9EE3-3FE1-44BB-A4EB-E8110519A6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C072-0DA4-4286-A409-64DF815D3C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F036-21A3-4121-9FB5-4713619644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E22-0441-4F01-B9C8-798A69C7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14B-EBDB-49E9-8341-3F6C8FFB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A73-37E1-489C-B81C-9CC95288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E1A-D36D-45F2-84F0-3E0C3203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F158-7980-44E3-9550-8F174DDD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8557-CCD6-4145-8815-AD1BD767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4A91-F171-4B6B-9529-A9055F60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56C6-978A-4D56-9CEA-1E9F9FAF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9DD8-C47D-4442-9F2F-010ADB70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7180-74FC-4D0D-B80D-48BE1484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D3B5-FE74-42B6-B716-C0480EAA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2D66-851E-426F-9977-3FA874B5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0557-63B4-4E25-8FF2-0D0E7712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359E-8FAD-4432-B21D-3039879D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65A5-D119-4EE5-A262-3360DC29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3410-B079-4D46-B773-3B034717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22D0-8AE1-4737-A08E-B34C0838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D67-5E63-483B-B74B-BBE93AA3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53A-914C-4E3A-B8DB-FB061A87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D3F-30FC-4927-B495-EB54E852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F75-4B9D-4E20-B747-4A4455AF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B6B-5945-4663-99B8-DDA0BC30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E2D-B711-4AEF-924C-B002224B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396-2268-4B88-A42C-6CD92ACB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2F2E-3946-401F-B509-E468FC2A8F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F135-073D-4614-BF04-8D892EBC4C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slide" Target="slide25.xml"/><Relationship Id="rId14" Type="http://schemas.openxmlformats.org/officeDocument/2006/relationships/slide" Target="slide35.xml"/><Relationship Id="rId15" Type="http://schemas.openxmlformats.org/officeDocument/2006/relationships/slide" Target="slide45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47.xml"/><Relationship Id="rId20" Type="http://schemas.openxmlformats.org/officeDocument/2006/relationships/slide" Target="slide19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21.xml"/><Relationship Id="rId25" Type="http://schemas.openxmlformats.org/officeDocument/2006/relationships/slide" Target="slide31.xml"/><Relationship Id="rId26" Type="http://schemas.openxmlformats.org/officeDocument/2006/relationships/slide" Target="slide41.xml"/><Relationship Id="rId27" Type="http://schemas.openxmlformats.org/officeDocument/2006/relationships/slide" Target="slide51.xml"/><Relationship Id="rId28" Type="http://schemas.openxmlformats.org/officeDocument/2006/relationships/slide" Target="slide53.xml"/><Relationship Id="rId29" Type="http://schemas.openxmlformats.org/officeDocument/2006/relationships/audio" Target="../media/jeopardy.wav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T’S PLAY JEOPARDY!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676520" y="6102360"/>
            <a:ext cx="6057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Answer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991600" y="2590920"/>
            <a:ext cx="25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6 yea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496440" y="2590920"/>
            <a:ext cx="805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“T” word that is used to describ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 on your teaching practice an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your own learning goals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32462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Answer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397600" y="259092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ransforma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757080" y="259092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 is the “money lady” at SFU Field Studie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32462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981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2436840" y="2819520"/>
            <a:ext cx="4149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 is Bridget Fox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7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528840" y="2514600"/>
            <a:ext cx="793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cost of Grad Diploma Educa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credit (+/- $50)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solidFill>
            <a:srgbClr val="c67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32462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948760" y="259092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$252.3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89240" y="2590920"/>
            <a:ext cx="712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consequence of paying yo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uition up to 6 weeks lat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" dur="32462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911520" y="2590920"/>
            <a:ext cx="67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nothing (then 2% and 2%/month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9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991440" y="2514600"/>
            <a:ext cx="688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governing body controls rate a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ich teachers are pai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32462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762120" y="1535040"/>
          <a:ext cx="7775280" cy="46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5040"/>
                    <a:ext cx="777528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 Box 4"/>
          <p:cNvSpPr/>
          <p:nvPr/>
        </p:nvSpPr>
        <p:spPr>
          <a:xfrm>
            <a:off x="83808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Tli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28600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Mon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809880" y="15238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Tech Tidb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394240" y="1523880"/>
            <a:ext cx="15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Cmptr Savv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6935400" y="15238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Hum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6766200" y="632448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ext Box 36"/>
          <p:cNvSpPr/>
          <p:nvPr/>
        </p:nvSpPr>
        <p:spPr>
          <a:xfrm>
            <a:off x="2880360" y="236520"/>
            <a:ext cx="35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 Rounded MT Bold"/>
              </a:rPr>
              <a:t>Jeopardy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218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762480" y="2590920"/>
            <a:ext cx="70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eacher Qualification Service (TQ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92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192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192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192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-380880" y="165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915840" y="2590920"/>
            <a:ext cx="73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main reason for taking Tlit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32462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841760" y="2590920"/>
            <a:ext cx="57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more money (greed is goo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ch Tidbits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295280" y="2590920"/>
            <a:ext cx="632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term is used to describe a collection of web pages designed to enable anyone who accesses it to contribute or modify conten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1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1"/>
          <p:cNvSpPr/>
          <p:nvPr/>
        </p:nvSpPr>
        <p:spPr>
          <a:xfrm>
            <a:off x="8686800" y="6477120"/>
            <a:ext cx="457200" cy="380880"/>
          </a:xfrm>
          <a:prstGeom prst="rect">
            <a:avLst/>
          </a:prstGeom>
          <a:solidFill>
            <a:srgbClr val="c67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14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6"/>
          <p:cNvSpPr/>
          <p:nvPr/>
        </p:nvSpPr>
        <p:spPr>
          <a:xfrm>
            <a:off x="8077320" y="6491160"/>
            <a:ext cx="380880" cy="36684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7" dur="32462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$100 Answer from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3066120" y="2590920"/>
            <a:ext cx="26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a Wik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100"/>
                            </p:stCondLst>
                            <p:childTnLst>
                              <p:par>
                                <p:cTn id="4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981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2058840" y="2590920"/>
            <a:ext cx="540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iva and Zamzar is freeware designed to do wha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32462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$200 Answer from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1447920" y="259092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download and convert internet videos to your comput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100"/>
                            </p:stCondLst>
                            <p:childTnLst>
                              <p:par>
                                <p:cTn id="5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752480" y="259092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free software records and uploads your screen-cas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32462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695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$300 Answer from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3680280" y="2666880"/>
            <a:ext cx="22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J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365760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 you can pay $20 for IshowU for a much better progra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1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058840" y="2590920"/>
            <a:ext cx="449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me freeware to do an online surve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2" dur="32462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0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8458200" y="62485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66800" y="2590920"/>
            <a:ext cx="65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acronymn “Tlite” is short for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2462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695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1439280" y="2590920"/>
            <a:ext cx="677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Google Docs, SurveyMonkey.com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rothersoft.com, etc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25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2058840" y="2590920"/>
            <a:ext cx="533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most common file sharing program on the Interne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2" dur="32462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Tech Tidbi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3302280" y="2743200"/>
            <a:ext cx="30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Limewi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100"/>
                            </p:stCondLst>
                            <p:childTnLst>
                              <p:par>
                                <p:cTn id="6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9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295280" y="2590920"/>
            <a:ext cx="609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-term memory in a computer is referred to as what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4" dur="32462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218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Answer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485000" y="259092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Random Access Memory (RA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2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Cmptr Savvy 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1676520" y="2590920"/>
            <a:ext cx="586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ze of memory is referred to as KB, MB  and GB.  What is the next size up referred to a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7" name="Picture 13" descr=""/>
          <p:cNvPicPr/>
          <p:nvPr/>
        </p:nvPicPr>
        <p:blipFill>
          <a:blip r:embed="rId2"/>
          <a:stretch/>
        </p:blipFill>
        <p:spPr>
          <a:xfrm>
            <a:off x="81532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5"/>
          <p:cNvSpPr/>
          <p:nvPr/>
        </p:nvSpPr>
        <p:spPr>
          <a:xfrm>
            <a:off x="7924680" y="6324480"/>
            <a:ext cx="685800" cy="36684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3" dur="32462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Answer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2434320" y="2514600"/>
            <a:ext cx="56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terra-byte (TB) which equal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thousand G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9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Question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889280" y="32194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838080" y="2590920"/>
            <a:ext cx="708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are several computer operating systems, many you are familiar with such as Windows, MAC-OS, MS-DOS and IMB-O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me one</a:t>
            </a:r>
            <a:r>
              <a:rPr b="1" lang="en-US" sz="2800" spc="-1" strike="noStrike">
                <a:solidFill>
                  <a:srgbClr val="ffffff"/>
                </a:solidFill>
                <a:latin typeface="ヒラギノ角ゴ Pro W3"/>
              </a:rPr>
              <a:t>_x0014_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 operating system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4" dur="32462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Answer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2209680" y="259092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Unix or Linux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900"/>
                            </p:stCondLst>
                            <p:childTnLst>
                              <p:par>
                                <p:cTn id="8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9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1600200" y="2514600"/>
            <a:ext cx="556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act discs (CD) can be written to and be read much faster now.  How is that possibl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6" dur="32462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Answer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57200" y="2590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is Teaching and Learning in a Technology Environ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Answer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4476600" y="2286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1600200" y="2590920"/>
            <a:ext cx="637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faster the CD spins the faster is writes and rea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48X spins at 24,000 rp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4038480" y="4952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D explo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3900"/>
                            </p:stCondLst>
                            <p:childTnLst>
                              <p:par>
                                <p:cTn id="8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2058840" y="2590920"/>
            <a:ext cx="48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 is this perso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2133720" y="3276720"/>
            <a:ext cx="49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30481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4" dur="32462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Answer from Cmptr Savv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3303360" y="2743200"/>
            <a:ext cx="28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 is Bill G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Question from Hum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2209680"/>
            <a:ext cx="855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p sign that you chosen the wrong universit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5" dur="32462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100 Answer from Hum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393480" y="2590920"/>
            <a:ext cx="82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versity expects you to attend classes and do wor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Hum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2745360" y="2590920"/>
            <a:ext cx="32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BM” me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7" dur="32462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Answer from Hum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2934000" y="2590920"/>
            <a:ext cx="27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Bought a MA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2514600" y="3809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 Intense Bowel Mov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164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$300 Question from Humour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228600" y="2209680"/>
            <a:ext cx="86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ou might be a _________ if the following apply to yo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1447920" y="3352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the concept of free time scares you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1219320" y="39625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you consider caffeine to be a major food gro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dream about wikis, blogs and field stud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32462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874440"/>
            <a:ext cx="8229600" cy="15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Answer from Hum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101320" y="2590920"/>
            <a:ext cx="43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lite Grad Stud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Hum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152280" y="1752480"/>
            <a:ext cx="87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do the following symptoms indicate you ar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295280" y="25909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shop regularly at Radio Shack (Sourc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1295280" y="38098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bought your spouse a new CD/DVD dr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1295280" y="5105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know what “HTML” me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2" dur="32462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Question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2566800" y="2590920"/>
            <a:ext cx="47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lite is from what universit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0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246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17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$400 Answer from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um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1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1910880" y="2590920"/>
            <a:ext cx="47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geek (computer gee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14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500 Question from Humour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OUBLE JEOPARDY</a:t>
            </a:r>
            <a:br>
              <a:rPr sz="28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231480" y="259092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ftware developers and another group have th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llowing in comm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7" name="Picture 15" descr=""/>
          <p:cNvPicPr/>
          <p:nvPr/>
        </p:nvPicPr>
        <p:blipFill>
          <a:blip r:embed="rId2"/>
          <a:stretch/>
        </p:blipFill>
        <p:spPr>
          <a:xfrm>
            <a:off x="81532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7"/>
          <p:cNvSpPr/>
          <p:nvPr/>
        </p:nvSpPr>
        <p:spPr>
          <a:xfrm>
            <a:off x="8001000" y="6324480"/>
            <a:ext cx="685800" cy="36684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Text Box 18"/>
          <p:cNvSpPr/>
          <p:nvPr/>
        </p:nvSpPr>
        <p:spPr>
          <a:xfrm>
            <a:off x="1219320" y="35812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first one is fre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Text Box 19"/>
          <p:cNvSpPr/>
          <p:nvPr/>
        </p:nvSpPr>
        <p:spPr>
          <a:xfrm>
            <a:off x="1219320" y="4038480"/>
            <a:ext cx="71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is tons of cash in the 14 to 25 year old mar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 Box 20"/>
          <p:cNvSpPr/>
          <p:nvPr/>
        </p:nvSpPr>
        <p:spPr>
          <a:xfrm>
            <a:off x="2133720" y="49528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th refer to clients as u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Text Box 21"/>
          <p:cNvSpPr/>
          <p:nvPr/>
        </p:nvSpPr>
        <p:spPr>
          <a:xfrm>
            <a:off x="1600200" y="54864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 or what is the “group”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"/>
          <p:cNvSpPr/>
          <p:nvPr/>
        </p:nvSpPr>
        <p:spPr>
          <a:xfrm>
            <a:off x="1905120" y="2362320"/>
            <a:ext cx="53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ake your wager (maximum is what you have banked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0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1" dur="32462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458200" cy="16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$500 Answer from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umou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2577960" y="259092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drug deal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0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4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4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6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Final Jeopardy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9" name="Rectangle 14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Text Box 15"/>
          <p:cNvSpPr/>
          <p:nvPr/>
        </p:nvSpPr>
        <p:spPr>
          <a:xfrm>
            <a:off x="1828800" y="1676520"/>
            <a:ext cx="521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oose your speaker and have him or her come up to the front of the roo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1981080" y="31240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topic will be Field Stud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3048120" y="3733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question is…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TextBox 9"/>
          <p:cNvSpPr/>
          <p:nvPr/>
        </p:nvSpPr>
        <p:spPr>
          <a:xfrm>
            <a:off x="1600200" y="1676520"/>
            <a:ext cx="655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lley Wilcox described four themes, empowerment of participants, collaboration through participation, acquisition of knowledge and social change.  These themes define a type of inquiry called _______ _________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0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2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4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Final Jeopardy Answer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2177280" y="2590920"/>
            <a:ext cx="40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Action Researc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200 Answer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220040" y="2590920"/>
            <a:ext cx="63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Simon Fraser University (SFU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4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Question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954720" y="25909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minimum level of technologic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nowledge and skills required to begin Tlite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3246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300 Answer from Tl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609480" y="5791320"/>
            <a:ext cx="609840" cy="6620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62040"/>
              <a:gd name="textAreaBottom" fmla="*/ 622800 h 662040"/>
            </a:gdLst>
            <a:ahLst/>
            <a:rect l="textAreaLeft" t="textAreaTop" r="textAreaRight" b="textAreaBottom"/>
            <a:pathLst>
              <a:path w="21600" h="23448">
                <a:moveTo>
                  <a:pt x="0" y="0"/>
                </a:moveTo>
                <a:lnTo>
                  <a:pt x="21600" y="0"/>
                </a:lnTo>
                <a:lnTo>
                  <a:pt x="21600" y="23448"/>
                </a:lnTo>
                <a:lnTo>
                  <a:pt x="0" y="23448"/>
                </a:lnTo>
                <a:close/>
              </a:path>
              <a:path fill="lightenLess" w="21600" h="2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8">
                <a:moveTo>
                  <a:pt x="21600" y="0"/>
                </a:moveTo>
                <a:lnTo>
                  <a:pt x="21600" y="23448"/>
                </a:lnTo>
                <a:lnTo>
                  <a:pt x="20200" y="22048"/>
                </a:lnTo>
                <a:lnTo>
                  <a:pt x="20200" y="1400"/>
                </a:lnTo>
                <a:close/>
              </a:path>
              <a:path fill="darkenLess" w="21600" h="23448">
                <a:moveTo>
                  <a:pt x="21600" y="23448"/>
                </a:moveTo>
                <a:lnTo>
                  <a:pt x="0" y="23448"/>
                </a:lnTo>
                <a:lnTo>
                  <a:pt x="1400" y="22048"/>
                </a:lnTo>
                <a:lnTo>
                  <a:pt x="20200" y="22048"/>
                </a:lnTo>
                <a:close/>
              </a:path>
              <a:path fill="lighten" w="21600" h="23448">
                <a:moveTo>
                  <a:pt x="0" y="2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8"/>
                </a:lnTo>
                <a:close/>
              </a:path>
              <a:path fill="darken" w="21600" h="23448">
                <a:moveTo>
                  <a:pt x="10800" y="4761"/>
                </a:moveTo>
                <a:lnTo>
                  <a:pt x="13376" y="7372"/>
                </a:ln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lnTo>
                  <a:pt x="17763" y="11724"/>
                </a:lnTo>
                <a:lnTo>
                  <a:pt x="16109" y="11724"/>
                </a:lnTo>
                <a:lnTo>
                  <a:pt x="16109" y="18913"/>
                </a:lnTo>
                <a:lnTo>
                  <a:pt x="5491" y="18913"/>
                </a:lnTo>
                <a:lnTo>
                  <a:pt x="5491" y="11724"/>
                </a:lnTo>
                <a:lnTo>
                  <a:pt x="3837" y="11724"/>
                </a:lnTo>
                <a:close/>
              </a:path>
              <a:path fill="darkenLess" w="21600" h="23448">
                <a:moveTo>
                  <a:pt x="13376" y="7372"/>
                </a:moveTo>
                <a:lnTo>
                  <a:pt x="13376" y="5631"/>
                </a:lnTo>
                <a:lnTo>
                  <a:pt x="15152" y="5631"/>
                </a:lnTo>
                <a:lnTo>
                  <a:pt x="15152" y="9148"/>
                </a:lnTo>
                <a:close/>
              </a:path>
              <a:path fill="darkenLess" w="21600" h="23448">
                <a:moveTo>
                  <a:pt x="9877" y="15223"/>
                </a:moveTo>
                <a:lnTo>
                  <a:pt x="11723" y="15223"/>
                </a:lnTo>
                <a:lnTo>
                  <a:pt x="11723" y="18913"/>
                </a:lnTo>
                <a:lnTo>
                  <a:pt x="16109" y="18913"/>
                </a:lnTo>
                <a:lnTo>
                  <a:pt x="16109" y="11724"/>
                </a:lnTo>
                <a:lnTo>
                  <a:pt x="5491" y="11724"/>
                </a:lnTo>
                <a:lnTo>
                  <a:pt x="5491" y="18913"/>
                </a:lnTo>
                <a:lnTo>
                  <a:pt x="9877" y="1891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130400" y="2590920"/>
            <a:ext cx="63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none; you can start at any leve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1" descr=""/>
          <p:cNvPicPr/>
          <p:nvPr/>
        </p:nvPicPr>
        <p:blipFill>
          <a:blip r:embed="rId1"/>
          <a:stretch/>
        </p:blipFill>
        <p:spPr>
          <a:xfrm>
            <a:off x="81532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$400 Question from Tlite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OUBLE JEOPAR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8077320" y="228600"/>
            <a:ext cx="380880" cy="380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221840" y="2743200"/>
            <a:ext cx="73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many years do you have to comple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SFU graduate master program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7"/>
          <p:cNvSpPr/>
          <p:nvPr/>
        </p:nvSpPr>
        <p:spPr>
          <a:xfrm>
            <a:off x="8305920" y="6248520"/>
            <a:ext cx="609480" cy="366480"/>
          </a:xfrm>
          <a:prstGeom prst="rect">
            <a:avLst/>
          </a:prstGeom>
          <a:solidFill>
            <a:srgbClr val="ca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1371600" y="20574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ake your wager (maximum is what you have banked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32462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22:12:31Z</dcterms:created>
  <dc:creator>Cheryl Diermyer</dc:creator>
  <dc:description/>
  <dc:language>en-US</dc:language>
  <cp:lastModifiedBy>SD#34</cp:lastModifiedBy>
  <dcterms:modified xsi:type="dcterms:W3CDTF">2008-07-11T20:58:40Z</dcterms:modified>
  <cp:revision>110</cp:revision>
  <dc:subject/>
  <dc:title>Slide 1</dc:title>
</cp:coreProperties>
</file>